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D74-1826-440D-97C2-25ECEC42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316-64C2-4DE8-9839-659C574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A2B-AE48-49EE-BBED-E47B1B0A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446-B9C4-4303-9998-F88771E1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D9E-E7B4-483C-87A8-8ADAF85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66C-521B-43AD-BEB1-73F1FA0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75A-F581-4DDA-BD0D-72858A83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EC1-9D73-4374-AE35-BE7705C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731-2111-4BD0-AB5F-7508032F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808-9F79-4D1E-86BB-88603C88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8A9-07D5-4E7E-B69E-C54EEFA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B8A-4FCB-4F10-90D0-4C0894C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ABF-7A44-4AF9-A70E-852D1F63E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932360" y="1844640"/>
            <a:ext cx="3924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vesnakartinki3"/>
          <p:cNvPicPr/>
          <p:nvPr/>
        </p:nvPicPr>
        <p:blipFill>
          <a:blip r:embed="rId1"/>
          <a:stretch/>
        </p:blipFill>
        <p:spPr>
          <a:xfrm>
            <a:off x="1332000" y="1413000"/>
            <a:ext cx="2917800" cy="44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егаю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выполню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и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обери пословицы.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черкни орфограм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3640" y="2276640"/>
            <a:ext cx="39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здоро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бро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о (не)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2276640"/>
            <a:ext cx="4043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е друзья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(не)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тяю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ш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   друз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в  б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бр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знае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того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тяю   всегда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бери себе задание по сила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уровень. Запиши, исправляя оши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Кашу маслом испортишь.  Лож человека красит   Здарове за денги куп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уровень. Придумай и запиши три предложения о том, что ты не любиш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7588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овые знания получи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как называется эта часть реч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ую роль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 в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до помнить о е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исании с глагол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_html_m7eb46e96 (1)"/>
          <p:cNvPicPr/>
          <p:nvPr/>
        </p:nvPicPr>
        <p:blipFill>
          <a:blip r:embed="rId1"/>
          <a:stretch/>
        </p:blipFill>
        <p:spPr>
          <a:xfrm>
            <a:off x="1403280" y="981000"/>
            <a:ext cx="6618240" cy="498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  урок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0" y="1628640"/>
            <a:ext cx="41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vesnakartinki3"/>
          <p:cNvPicPr/>
          <p:nvPr/>
        </p:nvPicPr>
        <p:blipFill>
          <a:blip r:embed="rId1"/>
          <a:stretch/>
        </p:blipFill>
        <p:spPr>
          <a:xfrm>
            <a:off x="1258920" y="1557360"/>
            <a:ext cx="291780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928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ав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 глаго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img1"/>
          <p:cNvPicPr/>
          <p:nvPr/>
        </p:nvPicPr>
        <p:blipFill>
          <a:blip r:embed="rId1"/>
          <a:stretch/>
        </p:blipFill>
        <p:spPr>
          <a:xfrm>
            <a:off x="324000" y="1484280"/>
            <a:ext cx="4537080" cy="33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57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859280" y="1916280"/>
            <a:ext cx="374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ёт ме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розит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воре апрел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тепло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esnakartinki3"/>
          <p:cNvPicPr/>
          <p:nvPr/>
        </p:nvPicPr>
        <p:blipFill>
          <a:blip r:embed="rId1"/>
          <a:stretch/>
        </p:blipFill>
        <p:spPr>
          <a:xfrm>
            <a:off x="1042920" y="1341360"/>
            <a:ext cx="305604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ыпиши глаголы,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раскрывая ско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стей  сегодня ж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им,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б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пости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ках (н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в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все повторя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s"/>
          <p:cNvPicPr/>
          <p:nvPr/>
        </p:nvPicPr>
        <p:blipFill>
          <a:blip r:embed="rId1"/>
          <a:stretch/>
        </p:blipFill>
        <p:spPr>
          <a:xfrm>
            <a:off x="539640" y="2060640"/>
            <a:ext cx="385308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сегда ли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с глаголами пишется разде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90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ает всё же, что 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сем без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да, куда бы ты ни шёл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им вместе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915920"/>
            <a:ext cx="3970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08"/>
          <p:cNvPicPr/>
          <p:nvPr/>
        </p:nvPicPr>
        <p:blipFill>
          <a:blip r:embed="rId1"/>
          <a:stretch/>
        </p:blipFill>
        <p:spPr>
          <a:xfrm>
            <a:off x="755640" y="1413000"/>
            <a:ext cx="6827760" cy="512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65530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навидя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укол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годуют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гда им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ездоровитс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пределите слова в два столб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3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бегаю,     (не)выполню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годую,    (не)пришё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(не)навидел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здоровится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7:58:51Z</dcterms:created>
  <dc:creator>Aleks</dc:creator>
  <dc:description/>
  <dc:language>en-US</dc:language>
  <cp:lastModifiedBy>Начальная</cp:lastModifiedBy>
  <dcterms:modified xsi:type="dcterms:W3CDTF">2020-04-18T07:41:35Z</dcterms:modified>
  <cp:revision>24</cp:revision>
  <dc:subject/>
  <dc:title>Тема :   ?</dc:title>
</cp:coreProperties>
</file>